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click.wav" ContentType="audio/x-wav"/>
  <Override PartName="/ppt/media/type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4243-03F1-4B9D-894A-4EA6ABF1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9C97-81B9-4761-89C1-E849A0F2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9DE9-CE22-4410-B629-0D5E6EA49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9087-D99A-4F47-A1A0-7709F994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F792-49AE-4467-BEB0-58373822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A5CA-AAA8-4BF6-A3E2-C57F7FD1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5E97-88CB-44EA-A3AE-BC670A19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F890-35F2-4229-8C97-6D06C873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7417-C309-46EE-A516-F65B7FCF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2B78-9264-4436-90AB-B5289E11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2A8D-C683-4903-8AA3-14479272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CDD7-A0CF-4712-A5FB-9DA9F5A3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09D8-0D1B-4EBB-A955-13961DF54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type.wav"/><Relationship Id="rId9" Type="http://schemas.openxmlformats.org/officeDocument/2006/relationships/audio" Target="../media/click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type.wav"/><Relationship Id="rId25" Type="http://schemas.openxmlformats.org/officeDocument/2006/relationships/audio" Target="../media/type.wav"/><Relationship Id="rId26" Type="http://schemas.openxmlformats.org/officeDocument/2006/relationships/audio" Target="../media/type.wav"/><Relationship Id="rId27" Type="http://schemas.openxmlformats.org/officeDocument/2006/relationships/audio" Target="../media/type.wav"/><Relationship Id="rId28" Type="http://schemas.openxmlformats.org/officeDocument/2006/relationships/audio" Target="../media/type.wav"/><Relationship Id="rId29" Type="http://schemas.openxmlformats.org/officeDocument/2006/relationships/audio" Target="../media/type.wav"/><Relationship Id="rId30" Type="http://schemas.openxmlformats.org/officeDocument/2006/relationships/audio" Target="../media/type.wav"/><Relationship Id="rId3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type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type.wav"/><Relationship Id="rId24" Type="http://schemas.openxmlformats.org/officeDocument/2006/relationships/audio" Target="../media/type.wav"/><Relationship Id="rId25" Type="http://schemas.openxmlformats.org/officeDocument/2006/relationships/audio" Target="../media/type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type.wav"/><Relationship Id="rId26" Type="http://schemas.openxmlformats.org/officeDocument/2006/relationships/audio" Target="../media/type.wav"/><Relationship Id="rId27" Type="http://schemas.openxmlformats.org/officeDocument/2006/relationships/audio" Target="../media/click.wav"/><Relationship Id="rId2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type.wav"/><Relationship Id="rId25" Type="http://schemas.openxmlformats.org/officeDocument/2006/relationships/audio" Target="../media/type.wav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type.wav"/><Relationship Id="rId25" Type="http://schemas.openxmlformats.org/officeDocument/2006/relationships/audio" Target="../media/type.wav"/><Relationship Id="rId26" Type="http://schemas.openxmlformats.org/officeDocument/2006/relationships/audio" Target="../media/click.wav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38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Интерактивный кроссворд </a:t>
            </a:r>
            <a:br>
              <a:rPr sz="3200"/>
            </a:b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по английскому языку</a:t>
            </a:r>
            <a:br>
              <a:rPr sz="3200"/>
            </a:b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 на тему</a:t>
            </a:r>
            <a:br>
              <a:rPr sz="3200"/>
            </a:b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Animals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4932360" y="5950080"/>
            <a:ext cx="1079640" cy="718920"/>
          </a:xfrm>
          <a:custGeom>
            <a:avLst/>
            <a:gdLst>
              <a:gd name="textAreaLeft" fmla="*/ 46440 w 1079640"/>
              <a:gd name="textAreaRight" fmla="*/ 1033200 w 1079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2432" h="21600">
                <a:moveTo>
                  <a:pt x="0" y="0"/>
                </a:moveTo>
                <a:lnTo>
                  <a:pt x="32432" y="0"/>
                </a:lnTo>
                <a:lnTo>
                  <a:pt x="32432" y="21600"/>
                </a:lnTo>
                <a:lnTo>
                  <a:pt x="0" y="21600"/>
                </a:lnTo>
                <a:close/>
              </a:path>
              <a:path fill="lightenLess" w="32432" h="21600">
                <a:moveTo>
                  <a:pt x="0" y="0"/>
                </a:moveTo>
                <a:lnTo>
                  <a:pt x="32432" y="0"/>
                </a:lnTo>
                <a:lnTo>
                  <a:pt x="31032" y="1400"/>
                </a:lnTo>
                <a:lnTo>
                  <a:pt x="1400" y="1400"/>
                </a:lnTo>
                <a:close/>
              </a:path>
              <a:path fill="darken" w="32432" h="21600">
                <a:moveTo>
                  <a:pt x="32432" y="0"/>
                </a:moveTo>
                <a:lnTo>
                  <a:pt x="32432" y="21600"/>
                </a:lnTo>
                <a:lnTo>
                  <a:pt x="31032" y="20200"/>
                </a:lnTo>
                <a:lnTo>
                  <a:pt x="31032" y="1400"/>
                </a:lnTo>
                <a:close/>
              </a:path>
              <a:path fill="darkenLess" w="32432" h="21600">
                <a:moveTo>
                  <a:pt x="32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2" y="20200"/>
                </a:lnTo>
                <a:close/>
              </a:path>
              <a:path fill="lighten" w="32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32" h="21600">
                <a:moveTo>
                  <a:pt x="9210" y="3794"/>
                </a:moveTo>
                <a:lnTo>
                  <a:pt x="23223" y="10800"/>
                </a:lnTo>
                <a:lnTo>
                  <a:pt x="921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Автор – Шипицына Ольга Виктор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учитель английского язы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МБОУ «Верховажская нош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с. Верховажь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Вологод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3132000" y="5950080"/>
            <a:ext cx="1079640" cy="718920"/>
          </a:xfrm>
          <a:custGeom>
            <a:avLst/>
            <a:gdLst>
              <a:gd name="textAreaLeft" fmla="*/ 46440 w 1079640"/>
              <a:gd name="textAreaRight" fmla="*/ 1033200 w 1079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2432" h="21600">
                <a:moveTo>
                  <a:pt x="0" y="0"/>
                </a:moveTo>
                <a:lnTo>
                  <a:pt x="32432" y="0"/>
                </a:lnTo>
                <a:lnTo>
                  <a:pt x="32432" y="21600"/>
                </a:lnTo>
                <a:lnTo>
                  <a:pt x="0" y="21600"/>
                </a:lnTo>
                <a:close/>
              </a:path>
              <a:path fill="lightenLess" w="32432" h="21600">
                <a:moveTo>
                  <a:pt x="0" y="0"/>
                </a:moveTo>
                <a:lnTo>
                  <a:pt x="32432" y="0"/>
                </a:lnTo>
                <a:lnTo>
                  <a:pt x="31032" y="1400"/>
                </a:lnTo>
                <a:lnTo>
                  <a:pt x="1400" y="1400"/>
                </a:lnTo>
                <a:close/>
              </a:path>
              <a:path fill="darken" w="32432" h="21600">
                <a:moveTo>
                  <a:pt x="32432" y="0"/>
                </a:moveTo>
                <a:lnTo>
                  <a:pt x="32432" y="21600"/>
                </a:lnTo>
                <a:lnTo>
                  <a:pt x="31032" y="20200"/>
                </a:lnTo>
                <a:lnTo>
                  <a:pt x="31032" y="1400"/>
                </a:lnTo>
                <a:close/>
              </a:path>
              <a:path fill="darkenLess" w="32432" h="21600">
                <a:moveTo>
                  <a:pt x="32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2" y="20200"/>
                </a:lnTo>
                <a:close/>
              </a:path>
              <a:path fill="lighten" w="32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32" h="21600">
                <a:moveTo>
                  <a:pt x="1621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2432" h="21600">
                <a:moveTo>
                  <a:pt x="1621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2432" h="21600">
                <a:moveTo>
                  <a:pt x="13640" y="8224"/>
                </a:moveTo>
                <a:lnTo>
                  <a:pt x="17504" y="8224"/>
                </a:lnTo>
                <a:lnTo>
                  <a:pt x="17504" y="15221"/>
                </a:lnTo>
                <a:lnTo>
                  <a:pt x="18793" y="15221"/>
                </a:lnTo>
                <a:lnTo>
                  <a:pt x="18793" y="16144"/>
                </a:lnTo>
                <a:lnTo>
                  <a:pt x="13640" y="16144"/>
                </a:lnTo>
                <a:lnTo>
                  <a:pt x="13640" y="15221"/>
                </a:lnTo>
                <a:lnTo>
                  <a:pt x="14928" y="15221"/>
                </a:lnTo>
                <a:lnTo>
                  <a:pt x="14928" y="9129"/>
                </a:lnTo>
                <a:lnTo>
                  <a:pt x="13640" y="912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11280" y="549360"/>
            <a:ext cx="4681800" cy="1800000"/>
          </a:xfrm>
          <a:prstGeom prst="wedgeRectCallout">
            <a:avLst>
              <a:gd name="adj1" fmla="val -69023"/>
              <a:gd name="adj2" fmla="val 11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дравствуйте, ребят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Вы знаете животных? Помогите мне разгадать кроссвор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250920" y="5589720"/>
            <a:ext cx="1439640" cy="718920"/>
          </a:xfrm>
          <a:custGeom>
            <a:avLst/>
            <a:gdLst>
              <a:gd name="textAreaLeft" fmla="*/ 46440 w 1439640"/>
              <a:gd name="textAreaRight" fmla="*/ 1393200 w 1439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43243" h="21600">
                <a:moveTo>
                  <a:pt x="0" y="0"/>
                </a:moveTo>
                <a:lnTo>
                  <a:pt x="43243" y="0"/>
                </a:lnTo>
                <a:lnTo>
                  <a:pt x="43243" y="21600"/>
                </a:lnTo>
                <a:lnTo>
                  <a:pt x="0" y="21600"/>
                </a:lnTo>
                <a:close/>
              </a:path>
              <a:path fill="lightenLess" w="43243" h="21600">
                <a:moveTo>
                  <a:pt x="0" y="0"/>
                </a:moveTo>
                <a:lnTo>
                  <a:pt x="43243" y="0"/>
                </a:lnTo>
                <a:lnTo>
                  <a:pt x="41843" y="1400"/>
                </a:lnTo>
                <a:lnTo>
                  <a:pt x="1400" y="1400"/>
                </a:lnTo>
                <a:close/>
              </a:path>
              <a:path fill="darken" w="43243" h="21600">
                <a:moveTo>
                  <a:pt x="43243" y="0"/>
                </a:moveTo>
                <a:lnTo>
                  <a:pt x="43243" y="21600"/>
                </a:lnTo>
                <a:lnTo>
                  <a:pt x="41843" y="20200"/>
                </a:lnTo>
                <a:lnTo>
                  <a:pt x="41843" y="1400"/>
                </a:lnTo>
                <a:close/>
              </a:path>
              <a:path fill="darkenLess" w="43243" h="21600">
                <a:moveTo>
                  <a:pt x="43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43" y="20200"/>
                </a:lnTo>
                <a:close/>
              </a:path>
              <a:path fill="lighten" w="43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43" h="21600">
                <a:moveTo>
                  <a:pt x="14615" y="3794"/>
                </a:moveTo>
                <a:lnTo>
                  <a:pt x="28628" y="10800"/>
                </a:lnTo>
                <a:lnTo>
                  <a:pt x="146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1692360" y="2707920"/>
            <a:ext cx="5400720" cy="1440000"/>
          </a:xfrm>
          <a:prstGeom prst="wedgeRectCallout">
            <a:avLst>
              <a:gd name="adj1" fmla="val -63462"/>
              <a:gd name="adj2" fmla="val 16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ход между  слайдами осуществляй при помощи управляющей кнопк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2000" y="342900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4508640"/>
            <a:ext cx="4681800" cy="1800000"/>
          </a:xfrm>
          <a:prstGeom prst="wedgeRectCallout">
            <a:avLst>
              <a:gd name="adj1" fmla="val 72212"/>
              <a:gd name="adj2" fmla="val -210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в сетку кроссворда вписать слово, Вам необходимо набрать его по буквам на клавиа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1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06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5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89000"/>
            <a:ext cx="8281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1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11280" y="234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162864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32720" y="1628640"/>
            <a:ext cx="7189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1280" y="234936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32720" y="189000"/>
            <a:ext cx="71892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32720" y="90792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3789360"/>
            <a:ext cx="71928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71640" y="1989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73440" y="162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32360" y="2708280"/>
            <a:ext cx="396072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цирке он большой талан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лон могучий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745164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3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745164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9236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5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5164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200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17236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9236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9272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3272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5164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7236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5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189000"/>
            <a:ext cx="8281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1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234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162864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32720" y="1628640"/>
            <a:ext cx="7189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9236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234936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189000"/>
            <a:ext cx="71892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720" y="90792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3789360"/>
            <a:ext cx="71928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2360" y="2349360"/>
            <a:ext cx="396072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знакомьтесь поскорей: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в джунглях это – царь зверей!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сех на свете одолев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добрел немножко ..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745164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745164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1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5164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3272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1200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7236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9236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1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164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5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3272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5164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17236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9272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71640" y="9079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5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7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7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8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8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9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97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0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0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1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2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2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7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7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9272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189000"/>
            <a:ext cx="8281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3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11280" y="234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92360" y="162864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1628640"/>
            <a:ext cx="7189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5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51280" y="234936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32720" y="189000"/>
            <a:ext cx="71892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32720" y="90792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11280" y="3789360"/>
            <a:ext cx="71928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7164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32360" y="2349360"/>
            <a:ext cx="38512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английс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 вершин достиг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винья, я знаю, будет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745164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745164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9236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9272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5164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17236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9236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7164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5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9272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1200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3272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5164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17236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3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5128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9272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11640" y="9079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1200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3272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1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7164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91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96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1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6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1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6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41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4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5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5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61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6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71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7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8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86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9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01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06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3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9272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5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89000"/>
            <a:ext cx="8281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3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1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1280" y="234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92360" y="162864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732720" y="1628640"/>
            <a:ext cx="7189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9236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1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5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51280" y="234936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32720" y="189000"/>
            <a:ext cx="71892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32720" y="90792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11280" y="3789360"/>
            <a:ext cx="71928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7164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932360" y="2708280"/>
            <a:ext cx="396072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чему сосисок н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тащил их рыжий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709308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3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709308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1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9236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5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45164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17236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9236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7164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9272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1200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73272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7236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3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128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9272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72360" y="18900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1200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7164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1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7164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3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9272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5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932360" y="2708280"/>
            <a:ext cx="268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9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34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39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44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49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54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59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64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69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74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79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481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84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89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4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9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04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9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4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19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24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29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34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39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44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1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29272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5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0920" y="189000"/>
            <a:ext cx="858996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189000"/>
            <a:ext cx="8281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13200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11280" y="162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411280" y="234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92360" y="162864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732720" y="1628640"/>
            <a:ext cx="7189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9236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1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51280" y="306864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1280" y="2349360"/>
            <a:ext cx="7207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732720" y="189000"/>
            <a:ext cx="71892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732720" y="907920"/>
            <a:ext cx="71892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411280" y="3789360"/>
            <a:ext cx="71928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71640" y="3789360"/>
            <a:ext cx="72072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32360" y="2708280"/>
            <a:ext cx="396072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одит за собой цыпля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ловно няня в детский с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" action="ppaction://hlinkshowjump?jump=nextslide"/>
          </p:cNvPr>
          <p:cNvSpPr/>
          <p:nvPr/>
        </p:nvSpPr>
        <p:spPr>
          <a:xfrm>
            <a:off x="745164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13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7451640" y="4149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39385" y="10800"/>
                </a:lnTo>
                <a:lnTo>
                  <a:pt x="2537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9236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5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45164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17236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9236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9272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1200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45164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17236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13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5128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92720" y="6308640"/>
            <a:ext cx="719280" cy="54936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1200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97164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7164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13200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3272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9272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5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71640" y="486900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732720" y="5589720"/>
            <a:ext cx="71892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50920" y="378936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411280" y="558972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411280" y="4869000"/>
            <a:ext cx="719280" cy="72072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62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564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67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72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3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574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77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579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82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87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92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97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02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07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12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3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614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17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22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3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624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27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32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634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7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42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3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644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47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8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649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52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3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654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57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8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659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62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67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669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72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686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89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836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952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189000"/>
            <a:ext cx="858996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11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11280" y="189000"/>
            <a:ext cx="8281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0920" y="-1251000"/>
            <a:ext cx="8229600" cy="593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332000" y="1628640"/>
            <a:ext cx="611964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Молодец!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375" name="">
            <a:hlinkClick r:id="" action="ppaction://hlinkshowjump?jump=endshow"/>
          </p:cNvPr>
          <p:cNvSpPr/>
          <p:nvPr/>
        </p:nvSpPr>
        <p:spPr>
          <a:xfrm>
            <a:off x="6732720" y="5229360"/>
            <a:ext cx="1439640" cy="720720"/>
          </a:xfrm>
          <a:custGeom>
            <a:avLst/>
            <a:gdLst>
              <a:gd name="textAreaLeft" fmla="*/ 46440 w 1439640"/>
              <a:gd name="textAreaRight" fmla="*/ 1393200 w 1439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3135" h="21600">
                <a:moveTo>
                  <a:pt x="0" y="0"/>
                </a:moveTo>
                <a:lnTo>
                  <a:pt x="43135" y="0"/>
                </a:lnTo>
                <a:lnTo>
                  <a:pt x="43135" y="21600"/>
                </a:lnTo>
                <a:lnTo>
                  <a:pt x="0" y="21600"/>
                </a:lnTo>
                <a:close/>
              </a:path>
              <a:path fill="lightenLess" w="43135" h="21600">
                <a:moveTo>
                  <a:pt x="0" y="0"/>
                </a:moveTo>
                <a:lnTo>
                  <a:pt x="43135" y="0"/>
                </a:lnTo>
                <a:lnTo>
                  <a:pt x="41735" y="1400"/>
                </a:lnTo>
                <a:lnTo>
                  <a:pt x="1400" y="1400"/>
                </a:lnTo>
                <a:close/>
              </a:path>
              <a:path fill="darken" w="43135" h="21600">
                <a:moveTo>
                  <a:pt x="43135" y="0"/>
                </a:moveTo>
                <a:lnTo>
                  <a:pt x="43135" y="21600"/>
                </a:lnTo>
                <a:lnTo>
                  <a:pt x="41735" y="20200"/>
                </a:lnTo>
                <a:lnTo>
                  <a:pt x="41735" y="1400"/>
                </a:lnTo>
                <a:close/>
              </a:path>
              <a:path fill="darkenLess" w="43135" h="21600">
                <a:moveTo>
                  <a:pt x="43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5" y="20200"/>
                </a:lnTo>
                <a:close/>
              </a:path>
              <a:path fill="lighten" w="43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5" h="21600">
                <a:moveTo>
                  <a:pt x="14561" y="3794"/>
                </a:moveTo>
                <a:lnTo>
                  <a:pt x="28574" y="10800"/>
                </a:lnTo>
                <a:lnTo>
                  <a:pt x="1456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8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pedsovet.su/load/390-1-0-43265 шаблон для презент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0920" y="1628640"/>
            <a:ext cx="8589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" action="ppaction://hlinkshowjump?jump=firstslide"/>
          </p:cNvPr>
          <p:cNvSpPr/>
          <p:nvPr/>
        </p:nvSpPr>
        <p:spPr>
          <a:xfrm>
            <a:off x="611280" y="5229360"/>
            <a:ext cx="1081080" cy="720720"/>
          </a:xfrm>
          <a:custGeom>
            <a:avLst/>
            <a:gdLst>
              <a:gd name="textAreaLeft" fmla="*/ 46440 w 1081080"/>
              <a:gd name="textAreaRight" fmla="*/ 1034640 w 1081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95" h="21600">
                <a:moveTo>
                  <a:pt x="0" y="0"/>
                </a:moveTo>
                <a:lnTo>
                  <a:pt x="32395" y="0"/>
                </a:lnTo>
                <a:lnTo>
                  <a:pt x="32395" y="21600"/>
                </a:lnTo>
                <a:lnTo>
                  <a:pt x="0" y="21600"/>
                </a:lnTo>
                <a:close/>
              </a:path>
              <a:path fill="lightenLess" w="32395" h="21600">
                <a:moveTo>
                  <a:pt x="0" y="0"/>
                </a:moveTo>
                <a:lnTo>
                  <a:pt x="32395" y="0"/>
                </a:lnTo>
                <a:lnTo>
                  <a:pt x="30995" y="1400"/>
                </a:lnTo>
                <a:lnTo>
                  <a:pt x="1400" y="1400"/>
                </a:lnTo>
                <a:close/>
              </a:path>
              <a:path fill="darken" w="32395" h="21600">
                <a:moveTo>
                  <a:pt x="32395" y="0"/>
                </a:moveTo>
                <a:lnTo>
                  <a:pt x="32395" y="21600"/>
                </a:lnTo>
                <a:lnTo>
                  <a:pt x="30995" y="20200"/>
                </a:lnTo>
                <a:lnTo>
                  <a:pt x="30995" y="1400"/>
                </a:lnTo>
                <a:close/>
              </a:path>
              <a:path fill="darkenLess" w="32395" h="21600">
                <a:moveTo>
                  <a:pt x="3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5" y="20200"/>
                </a:lnTo>
                <a:close/>
              </a:path>
              <a:path fill="lighten" w="3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5" h="21600">
                <a:moveTo>
                  <a:pt x="12698" y="10800"/>
                </a:moveTo>
                <a:lnTo>
                  <a:pt x="23204" y="3794"/>
                </a:lnTo>
                <a:lnTo>
                  <a:pt x="23204" y="17806"/>
                </a:lnTo>
                <a:close/>
              </a:path>
              <a:path fill="darken" w="32395" h="21600">
                <a:moveTo>
                  <a:pt x="9191" y="3794"/>
                </a:moveTo>
                <a:lnTo>
                  <a:pt x="10853" y="3794"/>
                </a:lnTo>
                <a:lnTo>
                  <a:pt x="10853" y="17806"/>
                </a:lnTo>
                <a:lnTo>
                  <a:pt x="919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5T17:06:56Z</dcterms:created>
  <dc:creator>Navigator</dc:creator>
  <dc:description/>
  <dc:language>en-US</dc:language>
  <cp:lastModifiedBy>Navigator</cp:lastModifiedBy>
  <dcterms:modified xsi:type="dcterms:W3CDTF">2015-01-12T14:45:14Z</dcterms:modified>
  <cp:revision>1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